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340-FC80-459B-8D76-EFDF0C5A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1B9-1C8A-4552-8043-300C78EC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0AB-3986-430C-B467-B7863E0D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85F-52F4-4A88-9867-56052493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85F-2E05-459A-9747-5CEFF990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F87-FD45-49A4-A0E6-189AFA26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16C-7D43-41E4-8C22-DC8D7F7A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974-51D7-452A-AF3D-8FA84698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1CB-B5B3-48C4-A365-3880EEB7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C1A-2794-4570-BBC8-C90E7248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EFC-18DD-4BEA-8FAF-95552DCA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762-EFF4-4F15-88F9-4F855DBC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7FA4-53FD-479D-B526-4D0DDE129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Book Antiqua"/>
              </a:rPr>
              <a:t>CURSO GEOLOGÍA GENERAL</a:t>
            </a: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                                     </a:t>
            </a: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PROGRAMA</a:t>
            </a:r>
            <a:r>
              <a:rPr b="0" lang="es-ES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ook Antiqua"/>
              </a:rPr>
              <a:t>Primera Parte:</a:t>
            </a: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INTRODUCCIÓN AL 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La Geología como disciplina científica.  El Sistema Tier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Método Científico. Escala de observación geológica. El factor tiempo en los procesos geológicos.  Principio del Uniformitarian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Estructura Interna de  la Tierra:  Núcleo, Manto Astenósfera, Litósfera, Corteza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Capas Externas envolventes: Atmósfera, Biósfera, Hiodrósf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Rasgos mayores de los Continentes y Océ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geológicos de la Tierra. Materia y Energía. Noción de equilibrio en los procesos ge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Dinámicos de la Tierra: Sistema Hidrológico,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 Tectónico, Gravedad e Isosta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gunda Parte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MATERIALES,  ESTRUCTURAS  Y TIEMPO GEOLÓGIC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Los materiales de la corteza. Minerales y Rocas. Rocas Igneas,   Rocas Sedimentarias y  Rocas Metamórf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structuras y formas de los materiales. Registros de  la deformación de los materiales.  Fracturas: diaclasas y fallas. Pliegues. Discord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l Tiempo Geológico: Edad absoluta y edad relativa de las rocas.  Geocronología.  Criterios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para establecer  el orden cronológico de los procesos y eventos geológicos. Escala Geológica del Tiempo</a:t>
            </a: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rcera Parte: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 LOS PROCESOS EXÓGENOS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(geodinámica externa de la Tier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677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Atmósfera – Océano. Ciclo Hidr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Meteorización ( Intemperización) de los mater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Remociones en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fluvial. Transporte de los materiales hacia el océ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Aguas Subterrá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Glaciar. El trabajo del H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Costas. Evolución del litoral cost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Eólico. Evolución de los Desiertos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Cuarta Parte: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LOS PROCESOS ENDÓGENOS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(geodinámica  interna de la Tierr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micidad.  Interior de la Tierr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aleomagnetism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Volcanismo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ctónica de Placas. Teoría Unificadora de la evolución del Pla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Di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Transcur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Con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untos Calientes (Hots Pots) y Plumas manté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iclo de vida de los Océ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Quinta Parte: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EVOLUCIÓN DE LA CORT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ctónica y evolución del pais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uentes de Recursos Minerales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tros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56:51Z</dcterms:created>
  <dc:creator>Universidad de Chile</dc:creator>
  <dc:description/>
  <dc:language>en-US</dc:language>
  <cp:lastModifiedBy>Universidad de Chile</cp:lastModifiedBy>
  <dcterms:modified xsi:type="dcterms:W3CDTF">2001-04-11T22:02:47Z</dcterms:modified>
  <cp:revision>5</cp:revision>
  <dc:subject/>
  <dc:title>CURSO GEOLOGÍA GENERAL                                          PROGRAMA </dc:title>
</cp:coreProperties>
</file>